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BF74-0335-46BF-ADD5-8A7259D02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BAAB-AB42-4FF3-AD94-39CB941B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497-02CD-47B6-BBFB-4A83E4BF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3059-5009-4ADB-8F03-A123FC6D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F91B-E679-433C-8E49-231D6809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DDCA-A2A9-43E1-9F33-EF4DF0FD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8BAA-C4AD-4C27-B640-F92DA0B7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A217-E49A-485A-8F5D-D6BD85D6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7D3F-325D-4F8C-B533-9DBDDC5D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2A1E-82B0-4708-988B-849BA34F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412B-B88C-4EEB-AEB0-DBB2355E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2ED8-415E-4EDC-ADF2-998F5CF6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7132-EC2C-4A08-B91E-B6071A39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8F42-E39E-4457-A50F-6DE021F8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305A-177C-4A3F-A0FB-73AE82C5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A524-8C2E-4B59-B999-EC024C89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0E62-34CE-4BDD-8BAC-1B036AA3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D993-0AD4-452B-B9DF-1410FE63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786D-21B5-47B3-96D1-7CB30A67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6F9-8A1D-4C46-BE0D-02CAFA82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DCE8-E294-4F1B-A028-B317C6DF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5339-1413-4CEE-9D01-5F7F79D4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1755-E4F7-4514-91D1-FF9E08DB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F48-CA14-45D5-B245-0EC07EEB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29CB-3D1D-4AAF-B53B-C9390894DF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9F92-B415-4B4D-BEE5-5DD133B4375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ime Management &amp; Planner Us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You think you know…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ily Schedule – Create Your Ow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5929" r="0" b="2219"/>
          <a:stretch/>
        </p:blipFill>
        <p:spPr>
          <a:xfrm>
            <a:off x="1447920" y="2133720"/>
            <a:ext cx="6610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ime Management - Brainst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you use your planner?  Any trick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ner Sugg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ick the right plann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the planner a part of your daily rout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ll in your assignment dates as soon as you know th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 reminders in your planner of upcoming due d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or code, highlighter, stickers, post-its, fla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discard old p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re Planner Sugg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t EVERYTHING in your plann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gular blocks of homework 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signment due d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st d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nces, parties, dates, celebr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mily gatherings, vacations, excur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SAT test d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gn-up deadli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es – due da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liday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llege visitation day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eeling of Accomplish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oritize your activities from greater to lesser importan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n’t be discouraged if activities have to be changed – schedule is a guideline so be flex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n’t change order to accommodate tasks of lesser importance -i.e. don’t go to the movies with your friends, instead of  studying for a test.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eep scheduling even if your plans have to be altered (Doctors don’t stop scheduling office appointments simply because they are called out on an emergency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it to using your planner for the next two week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nk Leaders will help you evaluate how well you did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Use a Planner? - Brainst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Use a Plann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ome aware of how you use your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 manag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eling of accomplish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480" y="83412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ecome aware of how you use your tim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me Management Quiz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200400"/>
            <a:ext cx="769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ny times students have not had to manage their time efficiently prior to high school.  This may not be a problem in middle school for them, and may not even be a problem in high school, but it may become a huge problem by the time they get to college.  Learning to use your time more effectively usually translates into higher grades and less stres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60920" indent="-160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60920" indent="-160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ke a mark each time one of the statements on the following pages applies to you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6814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ime Management Quiz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usually get up when my alarm goes off the first time in the morning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have time to eat breakfast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’m ready to catch my ride in the morning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turn in my assignments and projects completed and by the due dat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am on time for my first class about 95% of the tim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arrive on time for practices, sports events, club meetings, and other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xtracurricular activiti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know where to locate important papers in my backpack or at hom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complete chores or job assignments thoroughly and completely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correctly estimate the amount of time it takes to complete a job, task, or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ignment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At the beginning of each week I estimate how many hours I will need to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tudy that week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ime Management Quiz, con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begin long-term projects early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write a daily “to do” list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I prevent social activities from interfering with my study tim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I do not have a job requires me to work more than 10 hours a week at a jo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set specific goals each time I start to study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I begin study time with my most difficult assignment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I have a set place to study, always from distractions (e.g. television)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I try to complete most of my studying during my most productive hours each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ay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never allow my participation in sports to keep me from completing my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ignment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_____ I think of being a student as a full-time job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coring Your Quiz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828440" y="33523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ive yourself 1 point for each stateme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at you mark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Do You Rat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2819520"/>
            <a:ext cx="75438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0 – 8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Time Management NOT!  You need to get yourself in gear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9 – 14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Not too bad, but you can make your life a lot easier with a few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ple chang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5 – 2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ake time to keep up the good work.  Recognize the things tha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ou do to manage your time wisel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14680" y="81504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 Daily Sched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389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10:13Z</dcterms:created>
  <dc:creator>TECH</dc:creator>
  <dc:description/>
  <dc:language>en-US</dc:language>
  <cp:lastModifiedBy>ASD</cp:lastModifiedBy>
  <dcterms:modified xsi:type="dcterms:W3CDTF">2010-06-03T19:08:20Z</dcterms:modified>
  <cp:revision>2</cp:revision>
  <dc:subject/>
  <dc:title>Time Management &amp; Planner Use</dc:title>
</cp:coreProperties>
</file>